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819-0D3B-468F-9C11-4C689E5A2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34E5-0BDB-4B07-9148-199B77A2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07C-ABB2-4538-90F0-BBF6A206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DCC-1C2F-44D0-A0A5-B8C5410A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BBB-1829-4CFD-B1EC-43812BC1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859-9A4B-4073-A3C4-48295882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01C-3E46-4D92-AE07-271A716F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C03-DC39-4228-A3AB-4ED37CE4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22C-ECE6-4231-9ABD-75991A83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18A-3415-49DC-ADF4-4BFC818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84B-E1BC-40F9-9FA5-7583915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E4E-D69A-454F-97EE-9D43AB4E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B69-B885-433E-84B2-5C883CD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A97-7DDB-493F-8926-01CD740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74F-DFD9-4224-8F07-FD665F7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F99-2C47-4CA6-8511-8FF8CEB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0DE-1E93-4E41-8BD7-7D90C2FAF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133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earning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course you hope to teach nex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EED 5280- Active Learning: Math, Science &amp; Technology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three things students must get before they leave the course.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 Ideas   Ke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d tech tools can be used to enhance A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ow to adapt activities up or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ome sources of A.L.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1333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, and then pick one of these and develop one lesson-level LT that would be useful in this con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d tech tools can be used to enhance A.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tudents will develop their ability to use a selected PhET simulation to enhance student learning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earning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1333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Learning Target out of thi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lassify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fact - that which we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concept - that which we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skill - that which we can do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disposition - that which we feel, valu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e, etc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tate it clearly and conci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ake an explicit connection to standard(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tudents will develop their ability to use a selected PhET simulation to enhance student learning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earning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40:00Z</dcterms:created>
  <dc:creator>Mark Roddy</dc:creator>
  <dc:description/>
  <dc:language>en-US</dc:language>
  <cp:lastModifiedBy>Roddy, Mark</cp:lastModifiedBy>
  <cp:lastPrinted>2017-09-25T00:53:31Z</cp:lastPrinted>
  <dcterms:modified xsi:type="dcterms:W3CDTF">2017-09-25T01:00:18Z</dcterms:modified>
  <cp:revision>21</cp:revision>
  <dc:subject/>
  <dc:title>Create a Learning Target</dc:title>
</cp:coreProperties>
</file>